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B58D-996D-45E5-B02E-29E55B84E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1773-5B9D-44DD-BE7D-F88CDFD20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C75-802D-4290-A4D4-5185AAF0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E3AA-AF9C-48DC-B18B-4802C059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26C6-5E6B-4B24-9BBB-C633E815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A6CE-7035-4A71-B966-C90F9314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B44D-F34B-4585-A764-21F82BD8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9FBD-B548-4490-B4C4-DDA1A322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77C6-C338-4DC2-B2A7-5B511763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1A95-99C1-4453-AAC7-48105C7D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256F-B7C2-44C4-8C3F-AE87EF89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0F58-1426-4D61-BC54-41CE19E8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60F3-6877-45B8-9D4F-B8DB3DCE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CE62-1ED1-4683-95BB-9E1F08A8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362E-40B6-46BB-B8D1-F0E0EAE8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7990-C4E8-47FB-B0C7-8DE3D1D9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9F2F-2A0F-40A8-9098-372B1897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F4C2-1B91-46A5-A8F1-87BE4B81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36B3-1161-4E69-B276-155F5480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2C568-2142-4E07-95FE-E15A8677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57CBC-300C-47F0-AAAA-3EEC6241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AC87A-CC42-4C69-BEE1-E814AE6D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24CD1-E17B-4167-80A9-40B24C01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95D78-1193-41FF-ABE6-91E87890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806C-AF5D-4659-9A14-CA3D2DB2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95D45-3466-4BC4-9226-600145FA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168ED-8A33-45DD-A133-40986BE2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0B63B-F06C-458E-A482-49AFD375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7850F-A5F6-4BED-A92E-55FE10F0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DE76C-2684-46CC-B4D9-6DE829F0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E17C9-FF4F-451C-99DD-98309D94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60B5E-E503-4987-B401-A64AF2B3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2D8D5-8B7F-4C30-9BFC-552D0CA0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41E95-99B1-416D-8AF8-5CB0505E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EBE1F-06C6-4D6C-ACA6-38A97E16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24F5-63F0-4241-A7A7-32CFC30E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1010C-0BBE-4570-AA18-79E6A34F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66716-1F61-49DB-B2FB-8A657A77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9AF4F-1929-464B-9E9C-AAF7720F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873E1-9C6A-4E91-AC9D-4441A73B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F836D-0626-4831-B151-C05D9BD0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F6488-6DEC-4185-AAFD-E08DD053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DBBAB-AE90-4579-B53E-D4CDF4F6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65A10-6F2A-42A5-A01D-800D8954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76C32-E0D5-4764-B5BE-9983CE45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1D01-4597-465C-91FE-4532B5A2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C069-1A2E-423A-8086-836B7FE3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054D-E490-4855-A8F1-7BA98F06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C51B-8894-4578-82D8-B8C63F6D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3D35-8E29-4558-9D81-37A8CFC1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D1ED-C838-45E4-94A9-46DC50799C90}" type="slidenum">
              <a:rPr b="0" lang="zh-CN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任意多边形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任意多边形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09C3-BE00-4764-83E5-F8B8AC572B22}" type="slidenum">
              <a:rPr b="0" lang="zh-CN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任意多边形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E833-E514-4A2D-B15F-7A909CD230C4}" type="slidenum">
              <a:rPr b="0" lang="zh-CN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单圆角矩形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任意多边形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任意多边形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A41D-62E1-41DB-8801-6484F328C0C1}" type="slidenum">
              <a:rPr b="0" lang="zh-CN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anaw@nlc.gov.cn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42960" y="1428840"/>
            <a:ext cx="72151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015</a:t>
            </a:r>
            <a:r>
              <a:rPr b="1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年年会报告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隶书"/>
                <a:ea typeface="隶书"/>
              </a:rPr>
              <a:t>         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1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成员馆上传数据质量分析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r>
              <a:rPr b="0" lang="zh-CN" sz="2200" spc="-1" strike="noStrike">
                <a:solidFill>
                  <a:srgbClr val="000000"/>
                </a:solidFill>
                <a:latin typeface="隶书"/>
                <a:ea typeface="隶书"/>
              </a:rPr>
              <a:t>国家图书馆全国联合编目中心总审校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</a:t>
            </a:r>
            <a:r>
              <a:rPr b="0" lang="zh-CN" sz="1900" spc="-1" strike="noStrike">
                <a:solidFill>
                  <a:srgbClr val="000000"/>
                </a:solidFill>
                <a:latin typeface="隶书"/>
                <a:ea typeface="隶书"/>
              </a:rPr>
              <a:t>万爱雯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隶书"/>
                <a:ea typeface="隶书"/>
              </a:rPr>
              <a:t>                      </a:t>
            </a:r>
            <a:r>
              <a:rPr b="0" lang="en-US" sz="1900" spc="-1" strike="noStrike" u="sng">
                <a:solidFill>
                  <a:srgbClr val="e2d700"/>
                </a:solidFill>
                <a:uFillTx/>
                <a:latin typeface="隶书"/>
                <a:ea typeface="隶书"/>
                <a:hlinkClick r:id="rId1"/>
              </a:rPr>
              <a:t>wanaw@nlc.gov.c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隶书"/>
                <a:ea typeface="隶书"/>
              </a:rPr>
              <a:t>2015</a:t>
            </a:r>
            <a:r>
              <a:rPr b="1" lang="zh-CN" sz="19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1" lang="en-US" sz="19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r>
              <a:rPr b="1" lang="zh-CN" sz="1900" spc="-1" strike="noStrike">
                <a:solidFill>
                  <a:srgbClr val="000000"/>
                </a:solidFill>
                <a:latin typeface="隶书"/>
                <a:ea typeface="隶书"/>
              </a:rPr>
              <a:t>月</a:t>
            </a:r>
            <a:r>
              <a:rPr b="1" lang="zh-CN" sz="19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en-US" sz="1900" spc="-1" strike="noStrike">
                <a:solidFill>
                  <a:srgbClr val="000000"/>
                </a:solidFill>
                <a:latin typeface="隶书"/>
                <a:ea typeface="隶书"/>
              </a:rPr>
              <a:t>9-20</a:t>
            </a:r>
            <a:r>
              <a:rPr b="1" lang="zh-CN" sz="1900" spc="-1" strike="noStrike">
                <a:solidFill>
                  <a:srgbClr val="000000"/>
                </a:solidFill>
                <a:latin typeface="隶书"/>
                <a:ea typeface="隶书"/>
              </a:rPr>
              <a:t>日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字段号、字段指示符以及子字段标识符的使用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错误：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606##$a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电影文学剧本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$y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国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$z1949-1959$x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选集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606##$a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儿童文学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$x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篇小说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$y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国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$z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现代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6060#$a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周恩来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$f(1898-1976)$x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生平事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椭圆 1"/>
          <p:cNvSpPr/>
          <p:nvPr/>
        </p:nvSpPr>
        <p:spPr>
          <a:xfrm>
            <a:off x="971640" y="2997360"/>
            <a:ext cx="431640" cy="355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矩形 3"/>
          <p:cNvSpPr/>
          <p:nvPr/>
        </p:nvSpPr>
        <p:spPr>
          <a:xfrm>
            <a:off x="7667640" y="2997360"/>
            <a:ext cx="4334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椭圆 4"/>
          <p:cNvSpPr/>
          <p:nvPr/>
        </p:nvSpPr>
        <p:spPr>
          <a:xfrm>
            <a:off x="971640" y="3573360"/>
            <a:ext cx="43164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椭圆 2"/>
          <p:cNvSpPr/>
          <p:nvPr/>
        </p:nvSpPr>
        <p:spPr>
          <a:xfrm>
            <a:off x="324000" y="4076640"/>
            <a:ext cx="86328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正确：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6060#$a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电影文学剧本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$y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国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$z1949-1959$j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选集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6060#$a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儿童文学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$x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篇小说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$y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国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$z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现代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600#0$a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周恩来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$f(1898-1976)$x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生平事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矩形 2"/>
          <p:cNvSpPr/>
          <p:nvPr/>
        </p:nvSpPr>
        <p:spPr>
          <a:xfrm>
            <a:off x="971640" y="2492280"/>
            <a:ext cx="360360" cy="43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矩形 5"/>
          <p:cNvSpPr/>
          <p:nvPr/>
        </p:nvSpPr>
        <p:spPr>
          <a:xfrm>
            <a:off x="971640" y="3141720"/>
            <a:ext cx="431640" cy="358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圆角矩形 6"/>
          <p:cNvSpPr/>
          <p:nvPr/>
        </p:nvSpPr>
        <p:spPr>
          <a:xfrm>
            <a:off x="7667640" y="2492280"/>
            <a:ext cx="433440" cy="50508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167">
                <a:moveTo>
                  <a:pt x="3600" y="0"/>
                </a:moveTo>
                <a:arcTo wR="3600" hR="3600" stAng="16200000" swAng="-5400000"/>
                <a:lnTo>
                  <a:pt x="0" y="21567"/>
                </a:lnTo>
                <a:arcTo wR="3600" hR="3600" stAng="10800000" swAng="-5400000"/>
                <a:lnTo>
                  <a:pt x="18000" y="251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椭圆 1"/>
          <p:cNvSpPr/>
          <p:nvPr/>
        </p:nvSpPr>
        <p:spPr>
          <a:xfrm>
            <a:off x="324000" y="3645000"/>
            <a:ext cx="64764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主题词一般首选并列交叉概念组配，不应与其上位概念组配，不专指：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错误：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例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6060#$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儿童文学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x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画故事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国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z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当代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正确：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6060#$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画故事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国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z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当代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圆角矩形 1"/>
          <p:cNvSpPr/>
          <p:nvPr/>
        </p:nvSpPr>
        <p:spPr>
          <a:xfrm>
            <a:off x="2340000" y="3284640"/>
            <a:ext cx="144000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主题标引字段缺少必备的主体要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错误：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例：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607##$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广东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x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方史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z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清代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j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史料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6060#$x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儿童文学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x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篇小说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国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z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现代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椭圆 2"/>
          <p:cNvSpPr/>
          <p:nvPr/>
        </p:nvSpPr>
        <p:spPr>
          <a:xfrm>
            <a:off x="2268360" y="3284640"/>
            <a:ext cx="432000" cy="57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椭圆 3"/>
          <p:cNvSpPr/>
          <p:nvPr/>
        </p:nvSpPr>
        <p:spPr>
          <a:xfrm>
            <a:off x="2268360" y="4365720"/>
            <a:ext cx="43200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二、分类标引中存在的问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目前使用的是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国图书馆分类法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第五版，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69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版次应著录为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v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数据分类不够准确、细致：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人物传记的类号未按照中国或世界时代表复分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小说未按题材进行复分等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要求仿分、复分都按照分类法的规定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三、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中存在的问题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里两个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zeng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；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有并列题名，未著录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1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未出现责任者，而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7-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出现的责任者，应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-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说明出处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指示符的问题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缺少责任方式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责任说明的著录形式：国别或朝代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责任者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责任方式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四、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5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中存在的问题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00##$a20140117d2014^^^^em^y0chiy50^^^^^^e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5##$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影印版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00##$a20140925d2014^^^^em^y0chiy50^^^^^^e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5##$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版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漏著录版次：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椭圆 1"/>
          <p:cNvSpPr/>
          <p:nvPr/>
        </p:nvSpPr>
        <p:spPr>
          <a:xfrm>
            <a:off x="3564000" y="1700280"/>
            <a:ext cx="21600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椭圆 3"/>
          <p:cNvSpPr/>
          <p:nvPr/>
        </p:nvSpPr>
        <p:spPr>
          <a:xfrm>
            <a:off x="2124000" y="3789360"/>
            <a:ext cx="360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五、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10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中存在的问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00##$a20140221d2014^^^^em^y0chiy50^^^^^^e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10##$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北京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北京大学出版社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d2014.0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00##$a20060206d2006^^^^em^y0chiy50^^^^^^e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10##$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重庆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重庆出版社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d201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00##$a20140421a2014^^^^em^y0chiy50^^^^^^e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10##$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北京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国文史出版社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d201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圆角矩形 1"/>
          <p:cNvSpPr/>
          <p:nvPr/>
        </p:nvSpPr>
        <p:spPr>
          <a:xfrm>
            <a:off x="6084720" y="2205000"/>
            <a:ext cx="1224000" cy="43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椭圆 2"/>
          <p:cNvSpPr/>
          <p:nvPr/>
        </p:nvSpPr>
        <p:spPr>
          <a:xfrm>
            <a:off x="3708360" y="3213000"/>
            <a:ext cx="71928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椭圆 3"/>
          <p:cNvSpPr/>
          <p:nvPr/>
        </p:nvSpPr>
        <p:spPr>
          <a:xfrm>
            <a:off x="3564000" y="4941720"/>
            <a:ext cx="216000" cy="21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0" y="-936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00##$a20140504d2014^^^^em^y0chiy50^^^^^^e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10##$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武汉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国地质大学出版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d201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00##$a20140512d^^^^^^^^em^y0chiy50^^^^^^e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10##$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呼和浩特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远方出版社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d201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00##$a20140729e20142006em^y0chiy50^^^^^^e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10##$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北京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国电力出版社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d2006$h201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矩形 4"/>
          <p:cNvSpPr/>
          <p:nvPr/>
        </p:nvSpPr>
        <p:spPr>
          <a:xfrm>
            <a:off x="3276720" y="2276640"/>
            <a:ext cx="273528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椭圆 5"/>
          <p:cNvSpPr/>
          <p:nvPr/>
        </p:nvSpPr>
        <p:spPr>
          <a:xfrm>
            <a:off x="3780000" y="3213000"/>
            <a:ext cx="7207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椭圆 6"/>
          <p:cNvSpPr/>
          <p:nvPr/>
        </p:nvSpPr>
        <p:spPr>
          <a:xfrm>
            <a:off x="6804000" y="5229360"/>
            <a:ext cx="1081080" cy="57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、主题标引中存在的问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主题分析块中的个人名称主题的国别、朝代、民族不在规范检索点形式上用</a:t>
            </a:r>
            <a:r>
              <a:rPr b="0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$c</a:t>
            </a: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区分。（主题</a:t>
            </a:r>
            <a:r>
              <a:rPr b="0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11</a:t>
            </a: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库的外国人名的规范检索点形式的国别、朝代、民族不在规范检索点形式上用</a:t>
            </a:r>
            <a:r>
              <a:rPr b="0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$c</a:t>
            </a: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区分，而是要求写在注释的内容中，《中分表》和</a:t>
            </a:r>
            <a:r>
              <a:rPr b="0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11</a:t>
            </a: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库都是这样要求的。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错误：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0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600#0$c(</a:t>
            </a: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德</a:t>
            </a:r>
            <a:r>
              <a:rPr b="0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)$a</a:t>
            </a: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黑格尔</a:t>
            </a:r>
            <a:r>
              <a:rPr b="0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$c(Hegel, Georg Wilhelm Friedrich$f17701831)$x</a:t>
            </a: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美学思想</a:t>
            </a:r>
            <a:r>
              <a:rPr b="0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$x</a:t>
            </a: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研究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1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600#0$c(</a:t>
            </a: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战国</a:t>
            </a:r>
            <a:r>
              <a:rPr b="0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)$a</a:t>
            </a: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屈原</a:t>
            </a:r>
            <a:r>
              <a:rPr b="0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$f(</a:t>
            </a: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约公元前</a:t>
            </a:r>
            <a:r>
              <a:rPr b="0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339-</a:t>
            </a: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约前</a:t>
            </a:r>
            <a:r>
              <a:rPr b="0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278)$x</a:t>
            </a: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人物研究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椭圆 1"/>
          <p:cNvSpPr/>
          <p:nvPr/>
        </p:nvSpPr>
        <p:spPr>
          <a:xfrm>
            <a:off x="2340000" y="4221000"/>
            <a:ext cx="64764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椭圆 2"/>
          <p:cNvSpPr/>
          <p:nvPr/>
        </p:nvSpPr>
        <p:spPr>
          <a:xfrm>
            <a:off x="2411280" y="5516640"/>
            <a:ext cx="93672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-284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00##$a20141106d20142013em^y0chiy50^^^^^^e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10##$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西安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陕西人民美术出版社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d2013$h201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出版地出版者不详的描述形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要求描述完整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出版地不详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出版者不详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椭圆 3"/>
          <p:cNvSpPr/>
          <p:nvPr/>
        </p:nvSpPr>
        <p:spPr>
          <a:xfrm>
            <a:off x="250920" y="2205000"/>
            <a:ext cx="5047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椭圆 7"/>
          <p:cNvSpPr/>
          <p:nvPr/>
        </p:nvSpPr>
        <p:spPr>
          <a:xfrm>
            <a:off x="3924360" y="1052640"/>
            <a:ext cx="151128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-284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六、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30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内容提要中存在的问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3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中的错别字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未著录内容提要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成套书内容提要完全一致；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0" y="-284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七、并列题名中存在的问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遵循外文的书写规则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并列题名外文单词录入错误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题名页以外有外文题名，未著录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1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1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1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漏著并列题名语种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z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0" y="-284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八、关于译著的问题：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0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指标符特别是译著指示符的著录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关于编译的问题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谢  谢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图片 2" descr=""/>
          <p:cNvPicPr/>
          <p:nvPr/>
        </p:nvPicPr>
        <p:blipFill>
          <a:blip r:embed="rId1"/>
          <a:stretch/>
        </p:blipFill>
        <p:spPr>
          <a:xfrm>
            <a:off x="1428840" y="1467000"/>
            <a:ext cx="628632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正确：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600#0$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黑格尔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c(Hegel, Georg Wehelm$f1770-1831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600#0$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屈原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$f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约前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40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约前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78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图片 1" descr=""/>
          <p:cNvPicPr/>
          <p:nvPr/>
        </p:nvPicPr>
        <p:blipFill>
          <a:blip r:embed="rId1"/>
          <a:stretch/>
        </p:blipFill>
        <p:spPr>
          <a:xfrm>
            <a:off x="1343160" y="738360"/>
            <a:ext cx="6457680" cy="53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00#0$a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屈原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$f(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约前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40-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约前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78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图片 1" descr=""/>
          <p:cNvPicPr/>
          <p:nvPr/>
        </p:nvPicPr>
        <p:blipFill>
          <a:blip r:embed="rId1"/>
          <a:stretch/>
        </p:blipFill>
        <p:spPr>
          <a:xfrm>
            <a:off x="1090440" y="299880"/>
            <a:ext cx="6963120" cy="625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00#0$a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黑格尔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$c(Hegel, Georg Wehelm$f1770-1831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有用代关系的主题词：案例→案例分析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606#0$a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烟草工业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$x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企业管理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$x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案例分析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$y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河南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椭圆 1"/>
          <p:cNvSpPr/>
          <p:nvPr/>
        </p:nvSpPr>
        <p:spPr>
          <a:xfrm>
            <a:off x="5867280" y="2421000"/>
            <a:ext cx="1584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图片 3" descr=""/>
          <p:cNvPicPr/>
          <p:nvPr/>
        </p:nvPicPr>
        <p:blipFill>
          <a:blip r:embed="rId1"/>
          <a:stretch/>
        </p:blipFill>
        <p:spPr>
          <a:xfrm>
            <a:off x="957240" y="747720"/>
            <a:ext cx="7229520" cy="536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3:49:42Z</dcterms:created>
  <dc:creator>handeyin</dc:creator>
  <dc:description/>
  <dc:language>en-US</dc:language>
  <cp:lastModifiedBy>万户网络</cp:lastModifiedBy>
  <dcterms:modified xsi:type="dcterms:W3CDTF">2015-10-10T03:04:42Z</dcterms:modified>
  <cp:revision>46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